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831B-BC9F-4CAF-9334-CA2ED9F1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D3E4-BC3B-49D0-A259-D6617BA6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7526-D6D2-4EBE-BCC5-95492CE8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0492-C584-4B78-86DD-FB673EA1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E311-1181-4E57-9A16-ADD29FD1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977B-7230-4EF4-A829-135FBC5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6CB3-28F2-441B-858C-0EC25A74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CD35-2B4B-41F0-B932-51C1C2DE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48D4-DA70-4E93-BC68-5A4B99F1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C286-19F8-4CF2-B1BC-DA79F8F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A27C-611E-412E-A2A4-1189C86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F071-C561-45BF-BBE6-7C6509B7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ACD1-E5A6-460A-88A0-646892C2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A1B1-C08D-430F-8C56-70E3C98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BD94-AAC5-42E5-B319-AF4DDAD1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B1DF-85C9-4145-8D71-AD2C1B43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5E95-E79A-4602-A43E-7CFC4E97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8E13-9FBB-44FE-8DA4-36743B7C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0EE1-1835-42FB-9491-69CE4F9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0A2F-082A-4626-9584-7780F52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50C8-931F-404A-AD20-9EEEB11B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4F17-5153-40C4-968E-D17FAAB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1621-9405-4BF6-AD5B-2CE07F0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3133-D32E-4AF4-A897-228BECB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E6B1-1F1B-4626-8BA9-484C85EBA75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FADF-E9FB-40EB-A156-DA0B5EEAAF5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80100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2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Аз Твой съм ра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благоговение идв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щастие и скърби ме во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имам л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женство сал изпитва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Аз Твой съм раб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1793160"/>
            <a:ext cx="925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ях нявга аз заблуд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мрак, съмнение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ледах смъртта аз всякога пред мен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ерих веч във Тебе утеше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Аз Твой съм раб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каква любов и нежно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 обгръща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рис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 мой мил, милост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мойта слабост Ти с любов отвръщаш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Аз Твой съм раб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08000" y="1183680"/>
            <a:ext cx="925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то да съм по този земен наш кра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амо Твой ще съ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гда, Христе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също и при Те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сний свят ра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Твой ще съ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навсегд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9:02Z</dcterms:modified>
  <cp:revision>65</cp:revision>
  <dc:subject/>
  <dc:title>Slide 1</dc:title>
</cp:coreProperties>
</file>